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5B022-B62C-42F6-8AEB-91556F09D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6404C-5CE4-4158-BEC0-0DF6832E0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97719-7905-479B-9BC0-515FD98B15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E33-FD53-4EF3-BAD6-77254844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95A-92BF-4448-9913-C74529C3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0F5-12EB-465D-9E31-F2940064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BA6-BEED-4601-9079-836CC24F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FFC1-6B92-4F9C-9273-4BA90044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99C3-2BF5-40EB-822F-A5671A0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200-086A-4E3F-AD40-3517F01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1D5-B61E-484B-8A0A-BEA45F4B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5B0-E230-418D-8516-E0201B7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BB4-2B27-4D2E-B58B-31E3ECFD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84E-8951-4583-BD87-7CA6792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46B-1BD9-485C-B48C-916B6E3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04B5-D19A-445B-BE7A-5FA1927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EE4-19DE-46C9-A4F4-1204C447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500-7BE4-45FB-8EFE-B3C573E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F761-0E3D-40BF-8020-AC69F351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AF11-5E11-41C0-8DEE-E074192A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F6D-9D58-4971-B761-76A0F9D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235-761D-4F86-BC27-75F30B2A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883-357D-49C9-A5D9-82C94B0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F39-2651-439B-905D-E9EC0B3F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A58-BC65-4E66-AA28-7647109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4CA-1CA6-42A8-9839-E78727B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AB3-5BDA-4D3E-AF3A-AB8A3DB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B9A92-CA11-4EF3-91B1-2C4A4652440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7E753-1FC6-437B-A5AB-161E46F6FD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B5F25-4C2B-48EF-9C13-EA6D9C7A2E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Calibri"/>
              </a:rPr>
              <a:t>Four lobes of the cerebral cortex</a:t>
            </a:r>
            <a:endParaRPr b="0" lang="en-US" sz="6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6" descr="250px-Lobes_of_the_brain_NL.svg.png"/>
          <p:cNvPicPr/>
          <p:nvPr/>
        </p:nvPicPr>
        <p:blipFill>
          <a:blip r:embed="rId1"/>
          <a:stretch/>
        </p:blipFill>
        <p:spPr>
          <a:xfrm>
            <a:off x="1523880" y="2470320"/>
            <a:ext cx="5016600" cy="3571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152280" y="223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RON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324480" y="3327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CCIPI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787320" y="5856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MPOR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083280" y="24703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IETAL LO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5" name="Straight Arrow Connector 12"/>
          <p:cNvCxnSpPr/>
          <p:nvPr/>
        </p:nvCxnSpPr>
        <p:spPr>
          <a:xfrm>
            <a:off x="1549440" y="2815920"/>
            <a:ext cx="1829520" cy="7419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6" name="Straight Arrow Connector 13"/>
          <p:cNvCxnSpPr/>
          <p:nvPr/>
        </p:nvCxnSpPr>
        <p:spPr>
          <a:xfrm flipV="1">
            <a:off x="2774880" y="4984560"/>
            <a:ext cx="1207080" cy="815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7" name="Straight Arrow Connector 14"/>
          <p:cNvCxnSpPr/>
          <p:nvPr/>
        </p:nvCxnSpPr>
        <p:spPr>
          <a:xfrm flipH="1">
            <a:off x="4615560" y="2931120"/>
            <a:ext cx="1467720" cy="648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8" name="Straight Arrow Connector 17"/>
          <p:cNvCxnSpPr/>
          <p:nvPr/>
        </p:nvCxnSpPr>
        <p:spPr>
          <a:xfrm flipH="1">
            <a:off x="5944680" y="3789360"/>
            <a:ext cx="850320" cy="5342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Broca’s aphasia (expressive aphasia)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– damage to area – a language disorder characterised by an impaired ability to produce spe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understand others, can read, but likely to have difficulty with speaking (motor) and poor grammar and pronunciation. Know what they want to say but can’t get the words ou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: -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or grammar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low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aboured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peec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inly verbs and nouns, no conjun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(May have difficulty interpreting the meaning of words if the usual order of words is changed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.g. 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“here….head…..operation…here…speech…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none…. talking…..what….illness….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RIE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ocated at the top and centre of the brain between the frontal and occipital lobes of </a:t>
            </a: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EACH 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erebral hemisp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olved in functions such 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e of tou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ction of move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cation of objects in the surrounding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imary somatosensory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231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AU" sz="2800" spc="-1" strike="noStrike" u="sng">
                <a:solidFill>
                  <a:srgbClr val="ffff00"/>
                </a:solidFill>
                <a:uFillTx/>
                <a:latin typeface="Calibri"/>
              </a:rPr>
              <a:t>primary somatosensory corte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uns laterally (across) the top of the brain at the front of the lo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primary somatosensory cortex is characteris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Contra-lateral organis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left somatosensory cortex receives sensory information from the right side of the body and vice ver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Topographically 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how they are mapped out) - The size of the somatosensory cortex devoted to body parts reflects the sensitvity of the pa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Inverse representation</a:t>
            </a: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f body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–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feet at top and face at botto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3" descr="Picture 4.png"/>
          <p:cNvPicPr/>
          <p:nvPr/>
        </p:nvPicPr>
        <p:blipFill>
          <a:blip r:embed="rId1"/>
          <a:srcRect l="-43682" t="0" r="-43682" b="0"/>
          <a:stretch/>
        </p:blipFill>
        <p:spPr>
          <a:xfrm>
            <a:off x="-1252440" y="144360"/>
            <a:ext cx="11775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Homunculus of the sensory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1417680"/>
            <a:ext cx="45878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omparison of sensory &amp; motor homunc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Parietal lobes cont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ssociation area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e our body in space (using information from visual and auditory cortex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ing where objects are in the environment (using visual and spatial reasoning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amage to the parietal lobe association are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esult in ‘Neglect Syndrome’ i.e. ignoring the left side of the ‘world’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y result in spatial disorientation e.g. unable to find the way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OCCIPI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at the back of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rimary visual corte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ceives visual information from photoreceptors (rods and cones ) in the back of the ey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ssociation Are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lows us to form visual perceptions, think visually and remember visual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31440" indent="-2426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ight occur if there is damage to the occipital lob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Content Placeholder 3" descr="nrn1630-f4.jpg"/>
          <p:cNvPicPr/>
          <p:nvPr/>
        </p:nvPicPr>
        <p:blipFill>
          <a:blip r:embed="rId1"/>
          <a:srcRect l="-65008" t="0" r="-65008" b="0"/>
          <a:stretch/>
        </p:blipFill>
        <p:spPr>
          <a:xfrm>
            <a:off x="-2133720" y="0"/>
            <a:ext cx="1247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EMPOR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cated in the lower, central area of the bra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in auditory perception, memory, visual perception &amp; </a:t>
            </a:r>
            <a:r>
              <a:rPr b="0" lang="en-AU" sz="3000" spc="-1" strike="noStrike">
                <a:solidFill>
                  <a:srgbClr val="ffffff"/>
                </a:solidFill>
                <a:latin typeface="Calibri"/>
              </a:rPr>
              <a:t>recognising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ac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primary auditory cortex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Receives and processes auditory inform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as different locations for different aspects of sound (pitch, frequency etc)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ssociation Area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volved in memory &amp; linking emo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volved in facial recogni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rtical area (lobe) is associat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ifferen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uctures and fun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d after the bone in the skull they lie benea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lobe contain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nsory areas and/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tor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ociation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cated i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eft temporal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b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ar primary auditory cortex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volved i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mprehension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f speech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interpreting sound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ocating appropriate word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express meanin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Wernike’s aphasia (receptive aphasia)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– no trouble with a word’s pronunciation or grammar but the words chosen may be inappropriate and the meaning may be expressed in a round about way . Also, difficulty with understanding the meaning of the spoken wor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auses fluent, meaningless strings of word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ounds like normal speech, but makes no sen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.g. 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“I was over the other one, and then after they had been in the department, I was in this one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sides Wernicke’s aphasia, what other problems might arise as a result of damage to the temporal lob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RONTAL LOB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Largest lobe, located in the upper forward section of </a:t>
            </a:r>
            <a:r>
              <a:rPr b="0" lang="en-AU" sz="2500" spc="-1" strike="noStrike">
                <a:solidFill>
                  <a:srgbClr val="ffff00"/>
                </a:solidFill>
                <a:latin typeface="Calibri"/>
              </a:rPr>
              <a:t>EACH </a:t>
            </a: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cerebral hemispher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Contains the </a:t>
            </a:r>
            <a:r>
              <a:rPr b="1" lang="en-AU" sz="2500" spc="-1" strike="noStrike" u="sng">
                <a:solidFill>
                  <a:srgbClr val="ffff00"/>
                </a:solidFill>
                <a:uFillTx/>
                <a:latin typeface="Calibri"/>
              </a:rPr>
              <a:t>primary motor cortex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Runs laterally (across) the top of the brain at the rear of the lob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500" spc="-1" strike="noStrike">
                <a:solidFill>
                  <a:srgbClr val="ffffff"/>
                </a:solidFill>
                <a:latin typeface="Calibri"/>
              </a:rPr>
              <a:t>primary motor cortex is characterised by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Contra-lateral organisation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 left motor cortex controls voluntary movements on the right side of the body and vice versa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Topographically  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(how they are mapped out) - The size of the motor cortex devoted to body parts reflects the dexterity of the par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200" spc="-1" strike="noStrike">
                <a:solidFill>
                  <a:srgbClr val="ffff00"/>
                </a:solidFill>
                <a:latin typeface="Calibri"/>
              </a:rPr>
              <a:t>Inverse representation</a:t>
            </a:r>
            <a:r>
              <a:rPr b="1" lang="en-A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of body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 feet at top and face at botto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imary motor cortex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Content Placeholder 3" descr="Picture 3.png"/>
          <p:cNvPicPr/>
          <p:nvPr/>
        </p:nvPicPr>
        <p:blipFill>
          <a:blip r:embed="rId1"/>
          <a:srcRect l="-38736" t="0" r="-38736" b="0"/>
          <a:stretch/>
        </p:blipFill>
        <p:spPr>
          <a:xfrm>
            <a:off x="0" y="1143000"/>
            <a:ext cx="9477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Homonculus of the motor cort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Frontal lobe continued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ociation area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mental functioning such as reasoning, planning, judging and using initia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involved in personality and emotional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G Phineas Gage – change of person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ample - Phineas G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ilway construction supervisor, 1848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ter an accidental explosion, and iron rod (3.5cm diameter, 1m long &amp; 6kg) was shot through his skull, damaging his frontal lob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personality, social behaviour and temperament changed after the inciden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ineas lived for a further 12 ye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7" descr="phineas"/>
          <p:cNvPicPr/>
          <p:nvPr/>
        </p:nvPicPr>
        <p:blipFill>
          <a:blip r:embed="rId1"/>
          <a:stretch/>
        </p:blipFill>
        <p:spPr>
          <a:xfrm>
            <a:off x="4952880" y="1676520"/>
            <a:ext cx="370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Phineas Gage Sku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54440" y="274680"/>
            <a:ext cx="45766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600200"/>
            <a:ext cx="91440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eft fronta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ar face, tongue, jaw and throat of motor corte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olved in production of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ear fluen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rticulat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e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22:45:22Z</dcterms:created>
  <dc:creator>DE&amp;T user</dc:creator>
  <dc:description/>
  <dc:language>en-US</dc:language>
  <cp:lastModifiedBy>DR</cp:lastModifiedBy>
  <dcterms:modified xsi:type="dcterms:W3CDTF">2009-02-02T09:06:17Z</dcterms:modified>
  <cp:revision>15</cp:revision>
  <dc:subject/>
  <dc:title>Four lobes of the cerebral cortex</dc:title>
</cp:coreProperties>
</file>